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967B4-FD0D-4D4E-AF2D-90C36FE38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033CE-29B3-4AAE-8E81-1B4443F52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6298E-7FB6-44EC-B3D9-7C4AF8A31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ABD9E-3B82-4F5B-9B07-08647F526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207F7-8ACD-426C-9DEF-AC7BEF91B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E7E0C-A298-4542-A3D5-9F8470C7A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862BC-2095-4B4A-85B3-72B74C819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E8DA9-F2CA-45A2-B131-20D62AEAC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A27CA-B211-47EF-BBC6-96D6AE87E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8CAFA-EE8A-47B9-8158-7DFD75D01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DD627-9BAD-42C4-9AD4-300AEDCB7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AAA0A-B730-4F5E-8132-2C62A0172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FE04C-A1DF-40CA-892F-39AD12E8750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1T11:35:20Z</dcterms:created>
  <dc:creator>L'Orangerie du Châter</dc:creator>
  <dc:description/>
  <dc:language>en-US</dc:language>
  <cp:lastModifiedBy>L'Orangerie du Châter</cp:lastModifiedBy>
  <dcterms:modified xsi:type="dcterms:W3CDTF">2010-05-12T12:47:23Z</dcterms:modified>
  <cp:revision>3</cp:revision>
  <dc:subject/>
  <dc:title>Diapositive 1</dc:title>
</cp:coreProperties>
</file>