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8696-D781-4EB0-A06F-51290F62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A4B9-D432-46F1-9981-4BF4D1F6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4818-C921-493C-A33A-739CBA81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AA9F-C695-4748-A6FD-C1415327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DDE7-2C22-433B-BFF3-2E9AEFC9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28A1-708B-49FD-AE63-05D7B89A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3D57-E09A-474F-AA0B-F293DBF4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A282-029F-4A8B-B811-80384246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F2C3-7A15-4AA2-BFEA-A504424E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8C6E-D990-4645-8DE3-11CB65EF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ACDA-6947-4D25-A5B8-06E2F80F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56F2-DD2E-42B8-8D8B-7BEFF978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9BB8-1D5F-48B7-B492-96682AF3E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1:35:20Z</dcterms:created>
  <dc:creator>L'Orangerie du Châter</dc:creator>
  <dc:description/>
  <dc:language>en-US</dc:language>
  <cp:lastModifiedBy>L'Orangerie du Châter</cp:lastModifiedBy>
  <dcterms:modified xsi:type="dcterms:W3CDTF">2010-05-14T08:55:15Z</dcterms:modified>
  <cp:revision>4</cp:revision>
  <dc:subject/>
  <dc:title>Diapositive 1</dc:title>
</cp:coreProperties>
</file>