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87CA-9A35-4CEC-881E-CBA4EF1F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D0E2-7486-46F4-9F46-0B1797F5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88AB-BC6C-4E3C-8BA6-EC3E24B95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213-D913-45FD-90D1-1C546A970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0508-409B-4396-A62C-4C091CC2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EDB5-3CDB-4C17-80E5-431147BE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FE8A-C7B3-4B99-B790-EBDC9DA68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382-E4FE-4F94-926F-E5EECC2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F48F-C52C-4463-914D-D0C220F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58FE-A8B9-4181-80CA-5C9BFA544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DAF-BAB7-4C8A-A27E-56B11619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7BBB-2C47-4243-86FF-3E7F21DB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CAC34-74AD-4502-9E7B-DB8949D43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1:35:20Z</dcterms:created>
  <dc:creator>L'Orangerie du Châter</dc:creator>
  <dc:description/>
  <dc:language>en-US</dc:language>
  <cp:lastModifiedBy>L'Orangerie du Châter</cp:lastModifiedBy>
  <dcterms:modified xsi:type="dcterms:W3CDTF">2010-05-14T08:55:52Z</dcterms:modified>
  <cp:revision>5</cp:revision>
  <dc:subject/>
  <dc:title>Diapositive 1</dc:title>
</cp:coreProperties>
</file>